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D2A-D97D-4E85-B0DD-ADE13049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5A8-451C-4E2B-93E9-DD39DE74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BF2-84AC-411A-9758-43773EBF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DED-CBBA-422C-A7A9-1950E500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702A-8078-4587-8C14-64314DDF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0C4A-E497-4141-B414-BFA342C8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679C-7F5C-4556-9D82-6C13F171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4B77-C4DD-4B96-BEA5-E614ED9E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5BAE-889E-48B5-8CC1-2F079515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6058-BF67-4B7D-AEA5-9DEFC036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7437-D2A2-4763-BC8E-A5184152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7AA-AC45-4663-B9C4-9F38FD92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2427-DF94-4563-813E-B2E4C1D8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7F3C-8F5A-4B31-AAEF-B9036A56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F2E7-42BC-4CB1-BEE5-AC46E3AF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536E-C81F-4392-A2A3-AC1B9E45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F81A-9170-4F07-9DD0-2CE784CC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111-27A1-4DC7-BE47-DAE9F46E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6CF-98EB-4EC2-B44B-1AF5E972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E4D-CA28-4501-8CCF-D737D920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5D4-EC90-4E3E-9330-8420C7D1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5E0-40CB-47AF-8B61-6EC335DA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B59-A24B-4CA2-8340-02FA49B9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8C5-28F6-414A-8164-8A003C6B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E46F-D7D9-40B5-98EC-1598B97288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1AFE-3C9D-47E4-B5DA-0DC9EACB4AB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A Review Day 11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a frequency table of the following data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pet store has a variety of animals. Here is a list of the animals they have: cat, cat, dog, dog, bird, dog, bird, cat, dog, dog, hamster, dog, cat, hamster, hamster, hamster, dog, dog, c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8: Statistics and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:  Students will create and interpret stem and leaf pl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:  Students will create and interpret stem and leaf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cabulary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-and-leaf plot: Used to organize large sets of data. They have two part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 – smallest value digit in the dat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 – remaining dig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xample: The leaf of the data 48 is 8. The stem is 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create and interpret stem and leaf plots How to make a stem and leaf plo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stem and leaf plot to display the data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numbers range from 12 – 78. So the least stem is 1 and the greatest stem is 7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der stems from least to greatest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2286000"/>
          <a:ext cx="8610480" cy="1917720"/>
        </p:xfrm>
        <a:graphic>
          <a:graphicData uri="http://schemas.openxmlformats.org/drawingml/2006/table">
            <a:tbl>
              <a:tblPr/>
              <a:tblGrid>
                <a:gridCol w="1101600"/>
                <a:gridCol w="1251000"/>
                <a:gridCol w="1252440"/>
                <a:gridCol w="1381320"/>
                <a:gridCol w="1120680"/>
                <a:gridCol w="1251000"/>
                <a:gridCol w="1252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tur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609480" y="1752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ily Internet Use (minut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jective:  Students will create and interpret stem and leaf plots How to make a stem and leaf pl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rite the leaves next to their stems.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, 7, 8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    0, 3, 8, 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    0, 2, 2, 4, 7, 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    4, 5, 9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    2, 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    0, 2, 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re your leaves are in order from least to grea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re to include a k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990720"/>
            <a:ext cx="7596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1295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  2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create and interpret stem and leaf plots How to make a stem and leaf plot</a:t>
            </a:r>
            <a:br>
              <a:rPr sz="2400"/>
            </a:b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a stem –and-leaf plot of the dat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8, 96, 90, 58, 69, 68, 88, 73, 59, 65, 79, 57, 46, 81, 91, 97, 94, 5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create and interpret stem and leaf plots How to make a stem and leaf plot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a stem-and-leaf plot of the data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8, 104, 121, 132, 125, 145, 128, 134, 151, 110, 139, 127, 91, 124, 1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create and interpret stem and leaf plots How to make a stem and leaf plot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a stem-and-leaf plot of the dat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.6, 3.4, 3.8, 4.9, 3.2, 5.9, 3.7, 3.6, 5.2, 5.1, 4.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ive:  Students will create and interpret stem and leaf plots How to make a stem and leaf plo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k at the Stem-and-leaf plot from the previous slide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range of the data valu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which stem has the most lea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27:53Z</dcterms:created>
  <dc:creator>TAMMY  COON</dc:creator>
  <dc:description/>
  <dc:language>en-US</dc:language>
  <cp:lastModifiedBy>Brian McGrath</cp:lastModifiedBy>
  <dcterms:modified xsi:type="dcterms:W3CDTF">2011-02-27T21:53:45Z</dcterms:modified>
  <cp:revision>12</cp:revision>
  <dc:subject/>
  <dc:title>Opener</dc:title>
</cp:coreProperties>
</file>